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48F-B2DE-4509-8DFA-994584BC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BAD-E8F8-41AE-9E14-5BA90761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382-8B23-40D8-8B76-C7C9A2DB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6AB-DD7F-48E0-B343-E50D0906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26F-01ED-462A-B241-66AC78C8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CD3-4E62-4BAF-907A-EAB9BD4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AB1-E658-44CA-99D4-A290CBD8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E34-6810-4941-B096-36CACF65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18B-40E2-4888-BDEB-A893BDF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EC1-2462-4D82-9CA8-0F17968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4F2-CB11-484B-A4E8-C45C01F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6E0-F18B-4D31-B0AD-201DBA0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78D-B02D-449A-BBA1-567FB8253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5295600" y="3314160"/>
            <a:ext cx="3962520" cy="31240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248520" y="3429000"/>
            <a:ext cx="2057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Here lies Ebenezer Sc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He  doesn’t deserve a crown because he never came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400800" y="3124080"/>
            <a:ext cx="205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Here lies Ebenezer Scoo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An old   siner who turned into a g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Shaan</cp:lastModifiedBy>
  <dcterms:modified xsi:type="dcterms:W3CDTF">2009-12-10T01:07:02Z</dcterms:modified>
  <cp:revision>7</cp:revision>
  <dc:subject/>
  <dc:title>Slide 1</dc:title>
</cp:coreProperties>
</file>